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11.gif" ContentType="image/gi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AF6C06A-1B84-48FD-B717-428231131F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BD0A8DD-50F4-440A-B177-142EF8384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53FE85D-5DDA-49DC-831B-0D213FF4D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218C9EB-7444-4E27-8FF2-68B7DD8CF2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BC9F3C1-FA02-4E78-8CDD-0BDB06EF0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638B2E0-02E5-4EE2-A69F-6AB3B89BB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4C9B942-0B8D-4047-8452-90A0AC6D8C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D1AC885-330E-4C37-BED8-B72E8B2CF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12AF037-0AC8-4779-B394-34500AA7C3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 Note:  Have the students identify the different parts of the screens for the different software pack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D2DB2CF-5694-41F3-8EE4-934FDE4F5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18E5A1C-7B32-415F-B2EC-3AEF870C0A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4D14C23-DD30-415A-A4A1-9D2ED949F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2733172-5EED-446A-8BBE-747FE758D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468DF78-25A4-4EDF-BC1E-0A6670C10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1C9ED87-68CD-4B84-A9E9-85D69706D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DD2FF7D-4F21-4FBD-AE8C-8C7DA53A7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E5E0BC5-4670-4BE9-A8D5-36A30F531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ED02FF0-2168-448C-92F7-D941205D5C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Copyright laws protect the right of intellectual property and access to possible monetary rewards for owners, which should encourage creativ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Fair use situations apply to use in news reporting, parody, research, and edu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Public domain material do not have a copyright for the possible following reasons: no copyright issued, copyright expired, or it was not renew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Check out website http://www.ccsj.edu/blackboard/BB%20Copyright_Fair_Use.pdf for more information on copyright laws and multimed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6C482ED-79F2-4B4A-93C3-21DEC60BB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A63CE33-77CE-4620-A4E9-BE2295C5B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555DCAE-6021-4002-A190-759D1E653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0EB98CC-4311-4287-B978-873216B1E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69BA25F-75C4-484C-AE1F-46E911CC9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to flash interface:  http://iit.bloomu.edu/vthc/flash/mainlayou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to flash timeline:  http://iit.bloomu.edu/vthc/flash/Timelin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90EAE79-31D3-4AD3-B34D-32D794FB0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40983F6-7281-41AF-B4E9-B6CE87B888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DD86577-7D79-4FE6-B58C-E47582D9A7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E79EAD4-7FB6-42B9-8221-A116415D2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5334D-4AB9-4F71-9ADD-CA377D02B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920E3-32B1-4445-880E-42301D689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0D656-4F76-4257-9E85-65CE08B3D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C114B-7E46-4AC2-BE55-F756B5854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AD78E-9E79-4151-A4E5-87B58E24C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C87A9-A62C-43C1-B9E6-1DCAA6181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B5167-5980-4758-80A0-96BBAC5CA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6E83B-501A-44B4-A623-A629B1405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D7185-9E93-4A1F-8B26-C3AFBF92C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0E54B-C5CC-4F86-879C-EFB5EF22F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88077-4948-4EEF-AC6C-AB65E9823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1C633-CE39-46A4-AA5B-0A120E841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B09F6-8D33-4161-9A82-118EFC2D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C19EB-F2F0-4BC7-A664-ED56F97A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87F57-25F5-40BC-8183-5B664DF8D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F66DC-0EFD-41FB-879F-8274A4DCD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07916-8658-4012-82E6-094CF7AE3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FF6F2-D62C-4119-A7FF-1349B9B38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5226C-7568-424B-8B36-12D3A434D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08132-D21D-49A5-B0B2-B13F6BDDC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50E4C-9156-4A81-A310-8C7A053EA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4E14C-16EE-4A78-9C7F-D8727B4C0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CAA7A-B060-4231-B6A8-499EC2D02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7F10D-A2BC-4776-BE4B-0C39F7566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149DE-B98E-4D50-9A1B-D939F096FA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62232-157E-4EC8-8614-E560055E08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19520" y="1980720"/>
            <a:ext cx="632448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.02D Computer Animation Software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d Design Guidelines</a:t>
            </a:r>
            <a:endParaRPr b="0" lang="en-US" sz="4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743200" y="5333760"/>
            <a:ext cx="60199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02 Develop Computer Anim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Playhead</a:t>
            </a: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434340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red marker in the timeline that shows which frame is the current fr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533520" y="1752480"/>
            <a:ext cx="8001000" cy="2133720"/>
            <a:chOff x="533520" y="1752480"/>
            <a:chExt cx="8001000" cy="2133720"/>
          </a:xfrm>
        </p:grpSpPr>
        <p:pic>
          <p:nvPicPr>
            <p:cNvPr id="154" name="Picture 3" descr=""/>
            <p:cNvPicPr/>
            <p:nvPr/>
          </p:nvPicPr>
          <p:blipFill>
            <a:blip r:embed="rId1"/>
            <a:srcRect l="25925" t="24539" r="37037" b="61658"/>
            <a:stretch/>
          </p:blipFill>
          <p:spPr>
            <a:xfrm>
              <a:off x="533520" y="1752480"/>
              <a:ext cx="800100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Line 5"/>
            <p:cNvSpPr/>
            <p:nvPr/>
          </p:nvSpPr>
          <p:spPr>
            <a:xfrm flipH="1" flipV="1">
              <a:off x="4572000" y="2438280"/>
              <a:ext cx="838080" cy="13716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Scrubbing</a:t>
            </a: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gging the playhead across the timeline in order to preview the ani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rcRect l="25925" t="24539" r="37037" b="61658"/>
          <a:stretch/>
        </p:blipFill>
        <p:spPr>
          <a:xfrm>
            <a:off x="228600" y="3276720"/>
            <a:ext cx="8534520" cy="22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Frames Per Second (FPS)</a:t>
            </a: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umber of frames that appear in one second of the ani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6"/>
          <p:cNvGrpSpPr/>
          <p:nvPr/>
        </p:nvGrpSpPr>
        <p:grpSpPr>
          <a:xfrm>
            <a:off x="457200" y="3200400"/>
            <a:ext cx="8381880" cy="2666880"/>
            <a:chOff x="457200" y="3200400"/>
            <a:chExt cx="8381880" cy="2666880"/>
          </a:xfrm>
        </p:grpSpPr>
        <p:pic>
          <p:nvPicPr>
            <p:cNvPr id="162" name="Picture 4" descr=""/>
            <p:cNvPicPr/>
            <p:nvPr/>
          </p:nvPicPr>
          <p:blipFill>
            <a:blip r:embed="rId1"/>
            <a:srcRect l="7032" t="10420" r="22659" b="69794"/>
            <a:stretch/>
          </p:blipFill>
          <p:spPr>
            <a:xfrm>
              <a:off x="457200" y="3200400"/>
              <a:ext cx="838188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Oval 5"/>
            <p:cNvSpPr/>
            <p:nvPr/>
          </p:nvSpPr>
          <p:spPr>
            <a:xfrm>
              <a:off x="3886200" y="5181480"/>
              <a:ext cx="1143000" cy="5335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3" descr=""/>
          <p:cNvPicPr/>
          <p:nvPr/>
        </p:nvPicPr>
        <p:blipFill>
          <a:blip r:embed="rId1"/>
          <a:srcRect l="39733" t="30293" r="37037" b="61658"/>
          <a:stretch/>
        </p:blipFill>
        <p:spPr>
          <a:xfrm>
            <a:off x="1219320" y="4572000"/>
            <a:ext cx="7467480" cy="16668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6840" y="1980720"/>
            <a:ext cx="83818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animation program creates movies at 12 fps (frames per second) by default, inserting a keyframe and change once every 12 frames results in a change in action for every secon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oject with 60 frames results in a 5-second mov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380880" y="838080"/>
            <a:ext cx="792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Frames Per Second 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(continued)</a:t>
            </a:r>
            <a:r>
              <a:rPr b="0" i="1" lang="en-US" sz="44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5"/>
          <p:cNvSpPr/>
          <p:nvPr/>
        </p:nvSpPr>
        <p:spPr>
          <a:xfrm>
            <a:off x="4343400" y="5105520"/>
            <a:ext cx="2286000" cy="761760"/>
          </a:xfrm>
          <a:prstGeom prst="ellipse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Layers</a:t>
            </a: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59920" indent="-25992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line is divided into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y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help organize content and allow the different layers to be edited separate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259920">
              <a:spcBef>
                <a:spcPts val="601"/>
              </a:spcBef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nd would be on a separate lay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259920">
              <a:spcBef>
                <a:spcPts val="601"/>
              </a:spcBef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 would be on a separate lay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259920">
              <a:spcBef>
                <a:spcPts val="601"/>
              </a:spcBef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otion path would be on a separate lay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14"/>
          <p:cNvGrpSpPr/>
          <p:nvPr/>
        </p:nvGrpSpPr>
        <p:grpSpPr>
          <a:xfrm>
            <a:off x="533520" y="4495680"/>
            <a:ext cx="8001000" cy="1771920"/>
            <a:chOff x="533520" y="4495680"/>
            <a:chExt cx="8001000" cy="1771920"/>
          </a:xfrm>
        </p:grpSpPr>
        <p:sp>
          <p:nvSpPr>
            <p:cNvPr id="171" name="Text Box 7"/>
            <p:cNvSpPr/>
            <p:nvPr/>
          </p:nvSpPr>
          <p:spPr>
            <a:xfrm>
              <a:off x="533520" y="480060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Layer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8"/>
            <p:cNvSpPr/>
            <p:nvPr/>
          </p:nvSpPr>
          <p:spPr>
            <a:xfrm>
              <a:off x="533520" y="5334120"/>
              <a:ext cx="1600200" cy="0"/>
            </a:xfrm>
            <a:prstGeom prst="line">
              <a:avLst/>
            </a:prstGeom>
            <a:ln w="7632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3" name="Picture 13" descr="Synfig"/>
            <p:cNvPicPr/>
            <p:nvPr/>
          </p:nvPicPr>
          <p:blipFill>
            <a:blip r:embed="rId1">
              <a:lum bright="-6000"/>
            </a:blip>
            <a:srcRect l="0" t="81253" r="55334" b="0"/>
            <a:stretch/>
          </p:blipFill>
          <p:spPr>
            <a:xfrm>
              <a:off x="2438280" y="4495680"/>
              <a:ext cx="6096240" cy="177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Rectangle 6"/>
            <p:cNvSpPr/>
            <p:nvPr/>
          </p:nvSpPr>
          <p:spPr>
            <a:xfrm>
              <a:off x="2286000" y="4495680"/>
              <a:ext cx="2514600" cy="1676520"/>
            </a:xfrm>
            <a:prstGeom prst="rect">
              <a:avLst/>
            </a:prstGeom>
            <a:noFill/>
            <a:ln w="127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Motion Guide Layer</a:t>
            </a: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609480" y="1523880"/>
            <a:ext cx="3505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762120" y="1219320"/>
            <a:ext cx="821052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er on which a motion path is draw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s on different layers can be linked to the motion layer so they will follow the motion pa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linked, they become “guided layer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objects can be linked to one motion lay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layers can also be linked to a motion lay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0"/>
          <p:cNvGrpSpPr/>
          <p:nvPr/>
        </p:nvGrpSpPr>
        <p:grpSpPr>
          <a:xfrm>
            <a:off x="1447920" y="4724280"/>
            <a:ext cx="6933960" cy="1828800"/>
            <a:chOff x="1447920" y="4724280"/>
            <a:chExt cx="6933960" cy="1828800"/>
          </a:xfrm>
        </p:grpSpPr>
        <p:pic>
          <p:nvPicPr>
            <p:cNvPr id="180" name="Picture 4" descr=""/>
            <p:cNvPicPr/>
            <p:nvPr/>
          </p:nvPicPr>
          <p:blipFill>
            <a:blip r:embed="rId1"/>
            <a:srcRect l="25200" t="40709" r="55654" b="47300"/>
            <a:stretch/>
          </p:blipFill>
          <p:spPr>
            <a:xfrm>
              <a:off x="1447920" y="4724280"/>
              <a:ext cx="26668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8"/>
            <p:cNvSpPr/>
            <p:nvPr/>
          </p:nvSpPr>
          <p:spPr>
            <a:xfrm>
              <a:off x="4648320" y="5486400"/>
              <a:ext cx="3733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otion Guide Laye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9"/>
            <p:cNvSpPr/>
            <p:nvPr/>
          </p:nvSpPr>
          <p:spPr>
            <a:xfrm>
              <a:off x="4191120" y="6019920"/>
              <a:ext cx="1600200" cy="0"/>
            </a:xfrm>
            <a:prstGeom prst="line">
              <a:avLst/>
            </a:prstGeom>
            <a:ln w="76320">
              <a:solidFill>
                <a:srgbClr val="ff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Screenshots from Different Animation Software Packages</a:t>
            </a:r>
            <a:endParaRPr b="0" lang="en-US" sz="46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Flash</a:t>
            </a: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pic>
        <p:nvPicPr>
          <p:cNvPr id="185" name="Picture 6" descr="Flash_CS4_Workspace"/>
          <p:cNvPicPr/>
          <p:nvPr/>
        </p:nvPicPr>
        <p:blipFill>
          <a:blip r:embed="rId1"/>
          <a:stretch/>
        </p:blipFill>
        <p:spPr>
          <a:xfrm>
            <a:off x="1219320" y="1523880"/>
            <a:ext cx="7315200" cy="440388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7"/>
          <p:cNvSpPr/>
          <p:nvPr/>
        </p:nvSpPr>
        <p:spPr>
          <a:xfrm>
            <a:off x="380880" y="609588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mage has been used with permission from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ttp://glennward.co.uk/2009/09/1-1-introduction-to-adobe-flash-the-workspace-and-too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Synfig</a:t>
            </a: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pic>
        <p:nvPicPr>
          <p:cNvPr id="188" name="Picture 5" descr="Synfig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914400" y="1371600"/>
            <a:ext cx="7048440" cy="487692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7"/>
          <p:cNvSpPr/>
          <p:nvPr/>
        </p:nvSpPr>
        <p:spPr>
          <a:xfrm>
            <a:off x="914400" y="6400800"/>
            <a:ext cx="7010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created by Ricardo Graça and used with permission from:  www.ricolandia.co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99"/>
                </a:solidFill>
                <a:latin typeface="Arial"/>
              </a:rPr>
              <a:t>Autodesk 3ds Max</a:t>
            </a:r>
            <a:endParaRPr b="0" lang="en-US" sz="4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228600" y="6400080"/>
            <a:ext cx="86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mage used with permission from:  http://www.softpedia.com/progScreenshots/3D-Studio-Max-Screenshot-15976.htm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6" descr="3D-Studio-Max_1"/>
          <p:cNvPicPr/>
          <p:nvPr/>
        </p:nvPicPr>
        <p:blipFill>
          <a:blip r:embed="rId1"/>
          <a:stretch/>
        </p:blipFill>
        <p:spPr>
          <a:xfrm>
            <a:off x="1981080" y="1295280"/>
            <a:ext cx="6400800" cy="49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Common</a:t>
            </a: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Terms</a:t>
            </a: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in</a:t>
            </a: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Animation</a:t>
            </a: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Software</a:t>
            </a: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360" y="2057040"/>
            <a:ext cx="4647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b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y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mes per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uidelines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Designing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rame-by-Frame Computer Animations</a:t>
            </a:r>
            <a:endParaRPr b="0" lang="en-US" sz="40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Guidelines For Designing Frame-by-Frame Computer Animations</a:t>
            </a:r>
            <a:br>
              <a:rPr sz="4000"/>
            </a:br>
            <a:endParaRPr b="0" lang="en-US" sz="4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686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45720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ert keyframes at each change in the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Clr>
                <a:srgbClr val="00007d"/>
              </a:buClr>
              <a:buFont typeface="Wingdings" charset="2"/>
              <a:buChar char=""/>
              <a:tabLst>
                <a:tab algn="l" pos="45720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on keyframes can be changed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99960">
              <a:lnSpc>
                <a:spcPct val="90000"/>
              </a:lnSpc>
              <a:spcBef>
                <a:spcPts val="649"/>
              </a:spcBef>
              <a:spcAft>
                <a:spcPts val="488"/>
              </a:spcAft>
              <a:buClr>
                <a:srgbClr val="9999cc"/>
              </a:buClr>
              <a:buFont typeface="Wingdings" charset="2"/>
              <a:buChar char=""/>
              <a:tabLst>
                <a:tab algn="l" pos="457200"/>
                <a:tab algn="l" pos="85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ding and deleting object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99960">
              <a:lnSpc>
                <a:spcPct val="90000"/>
              </a:lnSpc>
              <a:spcBef>
                <a:spcPts val="649"/>
              </a:spcBef>
              <a:spcAft>
                <a:spcPts val="488"/>
              </a:spcAft>
              <a:buClr>
                <a:srgbClr val="9999cc"/>
              </a:buClr>
              <a:buFont typeface="Wingdings" charset="2"/>
              <a:buChar char=""/>
              <a:tabLst>
                <a:tab algn="l" pos="457200"/>
                <a:tab algn="l" pos="85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placing one object with another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99960">
              <a:lnSpc>
                <a:spcPct val="90000"/>
              </a:lnSpc>
              <a:spcBef>
                <a:spcPts val="649"/>
              </a:spcBef>
              <a:spcAft>
                <a:spcPts val="488"/>
              </a:spcAft>
              <a:buClr>
                <a:srgbClr val="9999cc"/>
              </a:buClr>
              <a:buFont typeface="Wingdings" charset="2"/>
              <a:buChar char=""/>
              <a:tabLst>
                <a:tab algn="l" pos="457200"/>
                <a:tab algn="l" pos="85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ving objects, resizing, or rotating objec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Clr>
                <a:srgbClr val="00007d"/>
              </a:buClr>
              <a:buFont typeface="Wingdings" charset="2"/>
              <a:buChar char=""/>
              <a:tabLst>
                <a:tab algn="l" pos="45720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these actions simulate some kind of motion or 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3" descr="frame_animation_timeline"/>
          <p:cNvPicPr/>
          <p:nvPr/>
        </p:nvPicPr>
        <p:blipFill>
          <a:blip r:embed="rId1"/>
          <a:stretch/>
        </p:blipFill>
        <p:spPr>
          <a:xfrm>
            <a:off x="4267080" y="4952880"/>
            <a:ext cx="358164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57200" y="2209320"/>
            <a:ext cx="815328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a keyframe at the point where the animation will stop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sufficient time for the image to be viewed after the final content chan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457200" y="685800"/>
            <a:ext cx="7924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Guidelines For Creating Frame-by-Frame Animations</a:t>
            </a:r>
            <a:r>
              <a:rPr b="0" i="1" lang="en-US" sz="1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(continued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723960" y="6114960"/>
            <a:ext cx="1839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838080" y="4191120"/>
            <a:ext cx="7315200" cy="20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For example, if a new graphic is inserted at frame 35, place the final keyframe at frame 50 to allow time for the display of the final graph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opyright Laws</a:t>
            </a:r>
            <a:endParaRPr b="0" lang="en-US" sz="50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Copyright Laws</a:t>
            </a: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r use sit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domain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s of Computer Animation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spcBef>
                <a:spcPts val="499"/>
              </a:spcBef>
              <a:buClr>
                <a:srgbClr val="9999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spcBef>
                <a:spcPts val="499"/>
              </a:spcBef>
              <a:buClr>
                <a:srgbClr val="9999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br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spcBef>
                <a:spcPts val="499"/>
              </a:spcBef>
              <a:buClr>
                <a:srgbClr val="9999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s of the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spcBef>
                <a:spcPts val="499"/>
              </a:spcBef>
              <a:buClr>
                <a:srgbClr val="9999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spcBef>
                <a:spcPts val="499"/>
              </a:spcBef>
              <a:buClr>
                <a:srgbClr val="9999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spcBef>
                <a:spcPts val="499"/>
              </a:spcBef>
              <a:buClr>
                <a:srgbClr val="9999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y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spcBef>
                <a:spcPts val="499"/>
              </a:spcBef>
              <a:buClr>
                <a:srgbClr val="9999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mes per Seco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spcBef>
                <a:spcPts val="499"/>
              </a:spcBef>
              <a:buClr>
                <a:srgbClr val="9999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y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Arial"/>
              </a:rPr>
              <a:t>Review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idelines for Designing An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ert keyframes at each change in the 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374"/>
              </a:spcAft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 keyframes 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374"/>
              </a:spcAft>
              <a:buClr>
                <a:srgbClr val="0000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ng and deleting objec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374"/>
              </a:spcAft>
              <a:buClr>
                <a:srgbClr val="0000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acing one object with anoth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374"/>
              </a:spcAft>
              <a:buClr>
                <a:srgbClr val="0000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ing objects, resizing, or rotating ob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 keyframe at the point where the animation will stop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 sufficient time for the image to be viewed after the final content chan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Stage</a:t>
            </a: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4038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art of the animation program window where the animation’s content is composed and manipul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/>
          <a:srcRect l="1373" t="26968" r="21599" b="4000"/>
          <a:stretch/>
        </p:blipFill>
        <p:spPr>
          <a:xfrm>
            <a:off x="4649760" y="1220760"/>
            <a:ext cx="4038480" cy="495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Library</a:t>
            </a: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s frequently used graphics, movie clips, and butt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8" descr=""/>
          <p:cNvPicPr/>
          <p:nvPr/>
        </p:nvPicPr>
        <p:blipFill>
          <a:blip r:embed="rId1"/>
          <a:stretch/>
        </p:blipFill>
        <p:spPr>
          <a:xfrm>
            <a:off x="4648320" y="914400"/>
            <a:ext cx="4038480" cy="51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Timeline</a:t>
            </a: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5438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art of the animation program window that organizes and controls an animation’s content over time using layers and fram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video-editing software, where source clips, transitions, and audio files are arranged to create the vide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1" descr="Flash_CS4_Workspace"/>
          <p:cNvPicPr/>
          <p:nvPr/>
        </p:nvPicPr>
        <p:blipFill>
          <a:blip r:embed="rId1"/>
          <a:srcRect l="15279" t="3339" r="25696" b="67825"/>
          <a:stretch/>
        </p:blipFill>
        <p:spPr>
          <a:xfrm>
            <a:off x="1219320" y="4724280"/>
            <a:ext cx="5943600" cy="174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Parts of the Timeline</a:t>
            </a:r>
            <a:endParaRPr b="0" lang="en-US" sz="50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Frames</a:t>
            </a: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76"/>
              </a:spcBef>
              <a:spcAft>
                <a:spcPts val="1276"/>
              </a:spcAft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Frames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hold the content that the movie displays or plays at that point in time.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76"/>
              </a:spcBef>
              <a:spcAft>
                <a:spcPts val="1276"/>
              </a:spcAft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number of frames determines the length of the animation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76"/>
              </a:spcBef>
              <a:spcAft>
                <a:spcPts val="1276"/>
              </a:spcAft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higher the number of frames, the longer the animation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Regular Frames</a:t>
            </a: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55627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 one image or frame.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9"/>
          <p:cNvGrpSpPr/>
          <p:nvPr/>
        </p:nvGrpSpPr>
        <p:grpSpPr>
          <a:xfrm>
            <a:off x="2590920" y="3200400"/>
            <a:ext cx="5085720" cy="1968480"/>
            <a:chOff x="2590920" y="3200400"/>
            <a:chExt cx="5085720" cy="1968480"/>
          </a:xfrm>
        </p:grpSpPr>
        <p:pic>
          <p:nvPicPr>
            <p:cNvPr id="132" name="Picture 5" descr=""/>
            <p:cNvPicPr/>
            <p:nvPr/>
          </p:nvPicPr>
          <p:blipFill>
            <a:blip r:embed="rId1"/>
            <a:srcRect l="46033" t="27004" r="39153" b="65603"/>
            <a:stretch/>
          </p:blipFill>
          <p:spPr>
            <a:xfrm>
              <a:off x="2590920" y="3200400"/>
              <a:ext cx="4038480" cy="14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Line 7"/>
            <p:cNvSpPr/>
            <p:nvPr/>
          </p:nvSpPr>
          <p:spPr>
            <a:xfrm flipV="1">
              <a:off x="5410080" y="4457520"/>
              <a:ext cx="0" cy="647640"/>
            </a:xfrm>
            <a:prstGeom prst="line">
              <a:avLst/>
            </a:prstGeom>
            <a:ln w="1015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8"/>
            <p:cNvSpPr/>
            <p:nvPr/>
          </p:nvSpPr>
          <p:spPr>
            <a:xfrm>
              <a:off x="5467320" y="4800600"/>
              <a:ext cx="22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gular Fra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Keyframes</a:t>
            </a: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s where the key (most important) actions occu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31"/>
          <p:cNvGrpSpPr/>
          <p:nvPr/>
        </p:nvGrpSpPr>
        <p:grpSpPr>
          <a:xfrm>
            <a:off x="2209680" y="2971800"/>
            <a:ext cx="5079960" cy="3172320"/>
            <a:chOff x="2209680" y="2971800"/>
            <a:chExt cx="5079960" cy="3172320"/>
          </a:xfrm>
        </p:grpSpPr>
        <p:grpSp>
          <p:nvGrpSpPr>
            <p:cNvPr id="138" name="Group 22"/>
            <p:cNvGrpSpPr/>
            <p:nvPr/>
          </p:nvGrpSpPr>
          <p:grpSpPr>
            <a:xfrm>
              <a:off x="2209680" y="2971800"/>
              <a:ext cx="5079960" cy="2649600"/>
              <a:chOff x="2209680" y="2971800"/>
              <a:chExt cx="5079960" cy="2649600"/>
            </a:xfrm>
          </p:grpSpPr>
          <p:pic>
            <p:nvPicPr>
              <p:cNvPr id="139" name="Picture 19" descr="tweening"/>
              <p:cNvPicPr/>
              <p:nvPr/>
            </p:nvPicPr>
            <p:blipFill>
              <a:blip r:embed="rId1"/>
              <a:srcRect l="42501" t="17743" r="0" b="25039"/>
              <a:stretch/>
            </p:blipFill>
            <p:spPr>
              <a:xfrm>
                <a:off x="2209680" y="4191120"/>
                <a:ext cx="4114800" cy="14302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40" name="Group 21"/>
              <p:cNvGrpSpPr/>
              <p:nvPr/>
            </p:nvGrpSpPr>
            <p:grpSpPr>
              <a:xfrm>
                <a:off x="3429000" y="2971800"/>
                <a:ext cx="3860640" cy="1828440"/>
                <a:chOff x="3429000" y="2971800"/>
                <a:chExt cx="3860640" cy="1828440"/>
              </a:xfrm>
            </p:grpSpPr>
            <p:sp>
              <p:nvSpPr>
                <p:cNvPr id="141" name="Text Box 9"/>
                <p:cNvSpPr/>
                <p:nvPr/>
              </p:nvSpPr>
              <p:spPr>
                <a:xfrm>
                  <a:off x="4267080" y="2971800"/>
                  <a:ext cx="302256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3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Shows where tweening will occur.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Line 10"/>
                <p:cNvSpPr/>
                <p:nvPr/>
              </p:nvSpPr>
              <p:spPr>
                <a:xfrm flipV="1">
                  <a:off x="3460680" y="3231720"/>
                  <a:ext cx="0" cy="156852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Line 11"/>
                <p:cNvSpPr/>
                <p:nvPr/>
              </p:nvSpPr>
              <p:spPr>
                <a:xfrm>
                  <a:off x="3429000" y="3200400"/>
                  <a:ext cx="73800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" name="Group 30"/>
            <p:cNvGrpSpPr/>
            <p:nvPr/>
          </p:nvGrpSpPr>
          <p:grpSpPr>
            <a:xfrm>
              <a:off x="2260440" y="5029200"/>
              <a:ext cx="2844720" cy="1114920"/>
              <a:chOff x="2260440" y="5029200"/>
              <a:chExt cx="2844720" cy="1114920"/>
            </a:xfrm>
          </p:grpSpPr>
          <p:sp>
            <p:nvSpPr>
              <p:cNvPr id="145" name="Line 24"/>
              <p:cNvSpPr/>
              <p:nvPr/>
            </p:nvSpPr>
            <p:spPr>
              <a:xfrm>
                <a:off x="2286000" y="5029200"/>
                <a:ext cx="0" cy="96192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25"/>
              <p:cNvSpPr/>
              <p:nvPr/>
            </p:nvSpPr>
            <p:spPr>
              <a:xfrm>
                <a:off x="5079960" y="5029200"/>
                <a:ext cx="0" cy="96192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26"/>
              <p:cNvSpPr/>
              <p:nvPr/>
            </p:nvSpPr>
            <p:spPr>
              <a:xfrm>
                <a:off x="2260440" y="5991120"/>
                <a:ext cx="558720" cy="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27"/>
              <p:cNvSpPr/>
              <p:nvPr/>
            </p:nvSpPr>
            <p:spPr>
              <a:xfrm>
                <a:off x="4572000" y="6006960"/>
                <a:ext cx="533160" cy="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Text Box 29"/>
              <p:cNvSpPr/>
              <p:nvPr/>
            </p:nvSpPr>
            <p:spPr>
              <a:xfrm>
                <a:off x="2666880" y="5715000"/>
                <a:ext cx="213372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Keyframes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Text Box 32"/>
          <p:cNvSpPr/>
          <p:nvPr/>
        </p:nvSpPr>
        <p:spPr>
          <a:xfrm>
            <a:off x="1447920" y="6400800"/>
            <a:ext cx="7162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used with permission from http://facweb.cs.depaul.edu/sgrais/creating_a_motion_tween.ht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1T18:52:06Z</dcterms:created>
  <dc:creator>tcunning</dc:creator>
  <dc:description/>
  <dc:language>en-US</dc:language>
  <cp:lastModifiedBy>Preferred User</cp:lastModifiedBy>
  <dcterms:modified xsi:type="dcterms:W3CDTF">2011-04-21T00:08:20Z</dcterms:modified>
  <cp:revision>113</cp:revision>
  <dc:subject/>
  <dc:title>Adapt still images into animations</dc:title>
</cp:coreProperties>
</file>